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F90-E523-46EA-B19C-17EF3AB9F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99D-CF88-4BD1-833C-C3839A50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7819-B98C-4BBD-A41A-6EFB005A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641-1C33-4B01-AA90-89E64F92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C40-1F69-4853-B9F4-086B0CB2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9457-1E4A-4303-82E2-67B8C619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3ED7-0AD7-49E2-877F-DA7D40C7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BEA-74AB-4875-948A-E55417A8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4E6-B195-45BC-9932-87572B5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D9B3-3928-4A6A-B684-7E59E462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E7AF-6366-41E1-943F-BC999DA6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A78-E4C7-4BE1-B8CE-695594A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31C4-D366-419D-8299-5006E32C6C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>
            <a:alpha val="3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-12600"/>
            <a:ext cx="9144000" cy="1071360"/>
          </a:xfrm>
          <a:prstGeom prst="rect">
            <a:avLst/>
          </a:prstGeom>
          <a:solidFill>
            <a:srgbClr val="dea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1254240" y="239760"/>
            <a:ext cx="62863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VOCABULARY FOR MODULE ON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alphaomega.jpg"/>
          <p:cNvPicPr/>
          <p:nvPr/>
        </p:nvPicPr>
        <p:blipFill>
          <a:blip r:embed="rId2"/>
          <a:stretch/>
        </p:blipFill>
        <p:spPr>
          <a:xfrm>
            <a:off x="8045280" y="12600"/>
            <a:ext cx="1071720" cy="1005120"/>
          </a:xfrm>
          <a:prstGeom prst="rect">
            <a:avLst/>
          </a:prstGeom>
          <a:ln w="9360">
            <a:solidFill>
              <a:srgbClr val="dea900"/>
            </a:solidFill>
            <a:miter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1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42920" y="145584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umbers in brackets after the Greek word are the number of times the word occurs in the New Testa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85960" y="2846520"/>
            <a:ext cx="4000320" cy="31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βρααμ (73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ἀμην (12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Δαυιδ (59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ῥαββι (1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43280" y="300348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4643280" y="363204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men, tr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4643280" y="42609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4657680" y="48751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b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c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6"/>
          <p:cNvSpPr/>
          <p:nvPr/>
        </p:nvSpPr>
        <p:spPr>
          <a:xfrm>
            <a:off x="6870600" y="6307200"/>
            <a:ext cx="2003400" cy="3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Vocabulary 2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1857240" y="2255760"/>
            <a:ext cx="45720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ακωβ (2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σραηλ (68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Ἰωσηφ (35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*και </a:t>
            </a:r>
            <a:r>
              <a:rPr b="0" lang="en-GB" sz="2700" spc="-1" strike="noStrike">
                <a:solidFill>
                  <a:srgbClr val="000000"/>
                </a:solidFill>
                <a:latin typeface="Gentium"/>
              </a:rPr>
              <a:t>(9161)</a:t>
            </a:r>
            <a:r>
              <a:rPr b="0" lang="el-GR" sz="2700" spc="-1" strike="noStrike">
                <a:solidFill>
                  <a:srgbClr val="000000"/>
                </a:solidFill>
                <a:latin typeface="Gentium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000760" y="24433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c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5000760" y="30384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000760" y="36813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se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5000760" y="43005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5:16:02Z</dcterms:created>
  <dc:creator>Sarah</dc:creator>
  <dc:description/>
  <dc:language>en-US</dc:language>
  <cp:lastModifiedBy>Sarah</cp:lastModifiedBy>
  <dcterms:modified xsi:type="dcterms:W3CDTF">2009-06-19T20:27:06Z</dcterms:modified>
  <cp:revision>12</cp:revision>
  <dc:subject/>
  <dc:title>Slide 1</dc:title>
</cp:coreProperties>
</file>