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2D43-3593-4FE9-8CBE-44585888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8A39-2B31-4647-B68C-EA90A470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ECC8-CBE6-4C0F-8940-5D706031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8A24-D665-4A8D-AE94-6859AF97A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EEDF-8358-4691-A55E-8C181A1F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9F55-7632-414C-9355-166DE511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D71F-07C0-49B2-8E54-74A5E9E4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5F66-5A3C-4F57-9778-A0FDED23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3159-3771-4304-9E64-3AEA317F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3718-83E4-4D4A-BA2E-41E9815B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E322-3925-4AA0-9FC4-CEA0A6F4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21C0-FD15-4084-84C2-A8375824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BF80-85FD-45C0-BF84-F25D8E6E80F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20760" y="239760"/>
            <a:ext cx="66834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TE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:Vocabulary 1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57120" y="112248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host of important wo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428840" y="1571760"/>
            <a:ext cx="464328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ἀληθεια (10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ληθινος (2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γγυς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κει (10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ἐκειθεν (3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εὐθυς (5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καλως (37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θως (18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929120" y="17128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929120" y="233676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ue, genuine,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929120" y="295596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929120" y="357012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(in that plac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4929120" y="419400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4929120" y="482760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med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4929120" y="605808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st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4929120" y="54291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ropriately,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:Vocabulary 2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1214280" y="1428840"/>
            <a:ext cx="4643640" cy="56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ναι (3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ὁμοιος (4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μοιως (30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που (82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ς ἥ ὅ (139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ὁτι (1296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ὑ (2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714920" y="156528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es, of 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4714920" y="218448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ilar, l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4714920" y="279864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ke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4714920" y="34225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4714920" y="40561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, which, 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4714920" y="4670280"/>
            <a:ext cx="407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at, because or “ (marking beginning of spee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4714920" y="591012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:Vocabulary 3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1214280" y="1285920"/>
            <a:ext cx="4643640" cy="56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δε (14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τε (8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	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οὐτε ... οὐτε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ὑτως (20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οὐχι (5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λην (3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οθεν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; (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ὡδε (61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4714920" y="14335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4714920" y="20527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4714920" y="266688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... 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"/>
          <p:cNvSpPr/>
          <p:nvPr/>
        </p:nvSpPr>
        <p:spPr>
          <a:xfrm>
            <a:off x="4714920" y="329076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is manner, th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4714920" y="392436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,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"/>
          <p:cNvSpPr/>
          <p:nvPr/>
        </p:nvSpPr>
        <p:spPr>
          <a:xfrm>
            <a:off x="4714920" y="453852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ever, 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4714920" y="515772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where? or 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4714920" y="577224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:Vocabulary 4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357120" y="150480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ur more prepos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1214280" y="2097000"/>
            <a:ext cx="464364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μπροσθεν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.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(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48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ἑνεκα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.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(26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εραν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.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(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23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χωρις +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.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(41)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5072040" y="22240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front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5072040" y="286236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the sak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5072040" y="34815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the other sid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5072040" y="409572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parate, apart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1228680" y="5081760"/>
            <a:ext cx="2357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*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Πιλατος (5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5072040" y="50958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:Vocabulary 5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"/>
          <p:cNvSpPr/>
          <p:nvPr/>
        </p:nvSpPr>
        <p:spPr>
          <a:xfrm>
            <a:off x="357120" y="150480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five more ver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1214280" y="2097000"/>
            <a:ext cx="46436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ἐγγιζω +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dat.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(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42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ἡγεομαι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(2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αυμαζω (4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3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θεραπευω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 (4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3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θευδω (22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5072040" y="22240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pproach, come 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5072040" y="286236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5072040" y="348156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m ama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5072040" y="409572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h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5072040" y="471492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sl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4T19:12:00Z</dcterms:created>
  <dc:creator>Sarah</dc:creator>
  <dc:description/>
  <dc:language>en-US</dc:language>
  <cp:lastModifiedBy>Sarah</cp:lastModifiedBy>
  <dcterms:modified xsi:type="dcterms:W3CDTF">2009-06-24T15:45:17Z</dcterms:modified>
  <cp:revision>19</cp:revision>
  <dc:subject/>
  <dc:title>Slide 1</dc:title>
</cp:coreProperties>
</file>