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811-C331-4C4A-ABC7-18CB3408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279-1F84-4CBC-90FD-9EB18F8D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6E2A-9047-47B5-BFF3-011FF5EB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D2B-9021-489C-A018-8724F264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C708-445F-4272-8EEE-E1AC4170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EF3-AA34-4E4C-8159-F5E5BD6F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A768-E335-448F-BC00-D7D81DAD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5EB-1FB5-4DEC-A838-71A6BB0D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ED6B-8AC1-4525-88D3-960B3700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DAD-DE3D-4D9D-9C7D-3FD9ED10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1A6-B527-46B1-9663-9B52F91E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2D6-7B28-4687-84F9-F58A4E87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0382-AA95-4EA9-9079-D1028D6480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00080" y="239760"/>
            <a:ext cx="6904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WELV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324080"/>
            <a:ext cx="82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rd declension words, grouped into their rough patter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857160" y="1857240"/>
            <a:ext cx="378612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νηρ, ἀνδρος, ὁ (21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στηρ, ἀστερος, ὁ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τηρ, σωτηρος, ὁ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ἰων, αἰωνος, ὁ (1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ρχων, ἀρχοντος, ὁ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ιμων, Σιμωνος, ὁ (7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υνη, γυναικος, ἡ (2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5214960" y="2014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 (male), hus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5214960" y="2643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5214960" y="3257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5214960" y="38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e (long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5214960" y="4481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uler,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5214960" y="5114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5214960" y="5729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man, w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857160" y="1285920"/>
            <a:ext cx="400068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λπις, ἐλπιδος, ἡ (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υξ, νυκτος, ἡ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ους, ποδος, ὁ (9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αρξ, σαρκος, ἡ (1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αρις, χαριτος, ἡ (1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ειρ, χειρος, ἡ (17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θυγατηρ, θυγατρος, ἡ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ητηρ, μητρος, ἡ (8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286240" y="144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286240" y="20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286240" y="2685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286240" y="3300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286240" y="3909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286240" y="4543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286240" y="5157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ugh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286240" y="5767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857160" y="1285920"/>
            <a:ext cx="442908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ατηρ, πατρος, ἡ (41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υρ, πυρος, το (7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ὑδωρ, ὑδατος, το (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ως, φωτος, το (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ἱμα, αἱματος, το (9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λημα, θεληματος, το (6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ὀνομα, ὀνοματος (2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νευμα, πνευματος, το (37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5572080" y="1442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ther, anc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572080" y="2071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572080" y="2685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572080" y="3300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572080" y="39099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572080" y="4543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572080" y="5157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572080" y="57675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irit,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857160" y="1434960"/>
            <a:ext cx="442908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ῥημα, ῥηματος, το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τομα, στοματος, το (7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σωμα, σωματος, το (1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5572080" y="1592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d, s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572080" y="2220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572080" y="2835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5572080" y="4457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rger,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5572080" y="5067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500040" y="36813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wo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857160" y="4287960"/>
            <a:ext cx="321480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ειζων (4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λειων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2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4843440" y="2347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one,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4843440" y="2957400"/>
            <a:ext cx="380052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? which? 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ί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also mean why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00040" y="157176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1857240" y="2185920"/>
            <a:ext cx="321480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τις τι (5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τίς τί (55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στις (15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σπερ (3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857840" y="4195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4857840" y="48243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0:44:09Z</dcterms:created>
  <dc:creator>Sarah</dc:creator>
  <dc:description/>
  <dc:language>en-US</dc:language>
  <cp:lastModifiedBy>Sarah</cp:lastModifiedBy>
  <dcterms:modified xsi:type="dcterms:W3CDTF">2009-06-24T15:57:31Z</dcterms:modified>
  <cp:revision>30</cp:revision>
  <dc:subject/>
  <dc:title>Slide 1</dc:title>
</cp:coreProperties>
</file>