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4F0-9948-493A-96AA-B3A7EDAE2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6F61-3DE3-4D11-8CD8-B3E80CE6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89F-A9F4-4E0C-9076-BB69596A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7056-9E38-4859-903C-0C2CE908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1E0-6334-464D-960F-7EA4D3C7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768-E8BD-4E90-A979-33159F9D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4A0-DCC3-408C-9740-B60D65FC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7F7-D732-489F-888C-45E1E45F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328-641D-4625-81F7-33B0D385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D4A-3F57-4BF5-99B2-6F32B23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C76-136A-4E42-8DC5-EA711943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515-49ED-4595-821B-92CF3CCD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F961-2B17-4EAD-8DE4-FD35E4E6F7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571680" y="239760"/>
            <a:ext cx="7332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HIRTE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1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28592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neuter noun with genitives in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ς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declining 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θνο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671480" y="2346480"/>
            <a:ext cx="400068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θνος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εος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τος (4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λο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ρος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ρος (6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786200" y="2500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 (pl. Gentil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786200" y="31291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786200" y="37386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786200" y="4357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, part, lim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786200" y="4957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t,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786200" y="5586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ntain, 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2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671480" y="1233360"/>
            <a:ext cx="40006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θ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ευος (2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κοτο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ελος (4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4786200" y="138744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tude, large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4786200" y="2016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 (pl. proper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786200" y="26258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786200" y="3244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,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500040" y="386244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masculine noun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βασιλε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3"/>
          <p:cNvSpPr/>
          <p:nvPr/>
        </p:nvSpPr>
        <p:spPr>
          <a:xfrm>
            <a:off x="1671480" y="4805280"/>
            <a:ext cx="25005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ρχιερευς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βασιλευς (1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4786200" y="49816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priest, chief 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>
            <a:off x="4786200" y="5581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1214280" y="1214280"/>
            <a:ext cx="2957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ραμματευς (63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ἱερευ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4786200" y="13921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ribe, cl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4786200" y="1992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3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642960" y="2786040"/>
            <a:ext cx="82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feminine noun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εω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λι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1200240" y="3714840"/>
            <a:ext cx="3214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στασις 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γνωσι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δυναμις (11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λιψις (45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829040" y="38718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829040" y="450072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829040" y="510048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wer, mi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829040" y="5715000"/>
            <a:ext cx="32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ffering, op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4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1300320" y="1143000"/>
            <a:ext cx="321444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ρισις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κλησις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στις (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λις (1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υνειδησις (30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4929120" y="13003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929120" y="19288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929120" y="25383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929120" y="31384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ty,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929120" y="37530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42800" y="4433760"/>
            <a:ext cx="8501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adjectives with genitives in –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υ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ηθης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285920" y="5043600"/>
            <a:ext cx="250020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η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σθενης (2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4929120" y="51958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, truthful, genu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1"/>
          <p:cNvSpPr/>
          <p:nvPr/>
        </p:nvSpPr>
        <p:spPr>
          <a:xfrm>
            <a:off x="4929120" y="58244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ak, s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285920" y="2071800"/>
            <a:ext cx="25002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ς (12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πας (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ἱς μια ἑν (3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δεις (23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ηδεις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4929120" y="222408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, every, wh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929120" y="28526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, e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4929120" y="345276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e, a 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4929120" y="40957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ne,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4929120" y="47005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one,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3:Vocabulary 6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357120" y="1714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clension masculine words with irregular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1071720" y="2752560"/>
            <a:ext cx="350028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ωϋσης (8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υς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4143240" y="29145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es,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ωϋσης, Μωϋσην, Μωϋσεως, Μωϋσε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ωϋσῃ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4143240" y="413388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d 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ους, νουν, νοος, νοι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21:13:13Z</dcterms:created>
  <dc:creator>Sarah</dc:creator>
  <dc:description/>
  <dc:language>en-US</dc:language>
  <cp:lastModifiedBy>Sarah</cp:lastModifiedBy>
  <dcterms:modified xsi:type="dcterms:W3CDTF">2009-06-24T16:03:02Z</dcterms:modified>
  <cp:revision>21</cp:revision>
  <dc:subject/>
  <dc:title>Slide 1</dc:title>
</cp:coreProperties>
</file>