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AA71-1FF3-411F-8F3A-4B8F7C24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3BC-36C7-4143-A4E6-E3C7C9A8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845B-7027-4C8D-9915-9D04EE42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3DF-847F-429C-804E-BF744A3A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5EF-B025-4631-8D67-09A1CB24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6E9-E8FD-42CC-BA73-E4216EE7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379-F17E-4855-9478-FC6325E2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59B0-E879-455B-9CFE-E3B08107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FD2-8E8D-4DAC-B7ED-5635448B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A1C6-2A3F-480F-9D3A-1D242E2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222-8BE9-4794-A9DE-C316F9A6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A48B-9DAD-4B97-8DE2-44037D7C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D693-16CF-47E2-AC9E-43C5A4A91C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357120" y="239760"/>
            <a:ext cx="7547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FOU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571680" y="135720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more no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000080" y="1928880"/>
            <a:ext cx="4643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x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λογο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1500120" y="2428920"/>
            <a:ext cx="3500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ωλο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δασκαλ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ρονος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λιθος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εσβυτερος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500800" y="25718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500800" y="32241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500800" y="3828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500800" y="44388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500800" y="5043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500800" y="5653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ld person, e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714240" y="141120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ight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714240" y="1954080"/>
            <a:ext cx="44294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πελων, ἀμπελωνος, ὁ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ἰκων, εἰκονος, ἡ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λλην, Ἑλληνος, ὁ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σαρ, Καισαρος, ὁ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μα, ατος, το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ς, ὠτος, το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5929200" y="209700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ney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5929200" y="2749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5929200" y="33544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5929200" y="3963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929200" y="45687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929200" y="5178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714240" y="1500120"/>
            <a:ext cx="4429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ς, παιδ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περμα, ατος, το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500720" y="1643040"/>
            <a:ext cx="44290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, servant (plus the related noun 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ιδ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52)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ild or infant, which declines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ργον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500720" y="351324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428760" y="43959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 indeclin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728640" y="5214960"/>
            <a:ext cx="3286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σχα, το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500720" y="52243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ss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714240" y="1554120"/>
            <a:ext cx="46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som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928800" y="2097000"/>
            <a:ext cx="4429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γοραζω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λασφημεω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ιακονεω (37)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ιαλογιζομαι (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λπιζ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ἑτοιμαζ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5214960" y="2239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5214960" y="28926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lasp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214960" y="34974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214960" y="41068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onsider, argue, discu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5214960" y="47116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5214960" y="5321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epare, mak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214960" y="27147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5214960" y="33670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est, te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5214960" y="39718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214960" y="45813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proph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5214960" y="205740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rasp, ar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1071720" y="1943280"/>
            <a:ext cx="30002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ατε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ισεω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ειραζ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ρασσω (3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φητευω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79932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4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5214960" y="21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cause to fall/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5214960" y="27194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214960" y="336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214960" y="3990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Ι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l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5214960" y="4610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ive fre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000080" y="1978200"/>
            <a:ext cx="35006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ανδαλιζ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ποτασσω (3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φυλασσω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νε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χαριζομαι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3:11:02Z</dcterms:created>
  <dc:creator>Sarah</dc:creator>
  <dc:description/>
  <dc:language>en-US</dc:language>
  <cp:lastModifiedBy>Sarah</cp:lastModifiedBy>
  <dcterms:modified xsi:type="dcterms:W3CDTF">2009-06-24T16:10:52Z</dcterms:modified>
  <cp:revision>16</cp:revision>
  <dc:subject/>
  <dc:title>Slide 1</dc:title>
</cp:coreProperties>
</file>