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C67-5197-47CC-8ECD-F18B63FB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4AA-EAA9-4A26-B25D-3413EBD8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F66-8B50-496A-AD17-18CC386D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2FAA-8A05-43F3-9798-F141332E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DA9-6033-428B-B6F6-964899D2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7820-9B28-4FFF-9A0B-D9A16831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0EB-409C-4CCC-920F-9BDC26CA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FBE-C969-4D7E-AD82-C6E85516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B05-B8D3-48C5-9476-AA005D0A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2EF-F97F-46CD-8ADD-84494B3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DC60-25FE-4531-AA11-A3B86BA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5FB-356D-42C3-BEE4-C358CBA0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E83B-BD44-4D30-B744-333D388BE93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IF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1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46700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more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500120" y="2376360"/>
            <a:ext cx="421488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βολος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ρπ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να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ιλιππος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ρονος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14920" y="2386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landerer, the dev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14920" y="29671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14920" y="35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nctuary, shrine, t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14920" y="42004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i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14920" y="4809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14920" y="54291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e (period 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2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57120" y="1467000"/>
            <a:ext cx="792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verbs that are Passive deponents (at least in some tens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857160" y="2643120"/>
            <a:ext cx="485784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κρινομαι (231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ουλ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ρευομαι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πορευομ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οβεομαι (9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5357880" y="26528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357880" y="3233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357880" y="3833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357880" y="4467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357880" y="50767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fraid, f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3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57120" y="1252440"/>
            <a:ext cx="79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many more (normal)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57160" y="19670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ἁγιαζ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εω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ταζ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αμ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ριζ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ου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χε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5357880" y="1976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h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357880" y="2557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357880" y="3157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357880" y="37908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357880" y="44006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make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357880" y="50054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 sl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5357880" y="5610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u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857160" y="1682640"/>
            <a:ext cx="485784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νδυω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πιστρεφω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κ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σχ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ελευ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λαι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ωλυω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(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ve come, am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i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5:Vocabulary 5/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857160" y="1500120"/>
            <a:ext cx="48578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υπ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μνυ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ρισσευ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ε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στρεφ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αιν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ρονεω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5357880" y="16905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ieve,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357880" y="2273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wear, take an o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357880" y="28735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xc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5357880" y="350532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ish,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357880" y="411624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urn back,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357880" y="47214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hine,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9"/>
          <p:cNvSpPr/>
          <p:nvPr/>
        </p:nvSpPr>
        <p:spPr>
          <a:xfrm>
            <a:off x="5357880" y="532620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o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1:37:10Z</dcterms:created>
  <dc:creator>Sarah</dc:creator>
  <dc:description/>
  <dc:language>en-US</dc:language>
  <cp:lastModifiedBy>Sarah</cp:lastModifiedBy>
  <dcterms:modified xsi:type="dcterms:W3CDTF">2009-06-24T16:15:11Z</dcterms:modified>
  <cp:revision>9</cp:revision>
  <dc:subject/>
  <dc:title>Slide 1</dc:title>
</cp:coreProperties>
</file>