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68CC-6F7F-420B-A3BD-40176045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7039-04A6-4705-9CCF-64CF0338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0CD-9B7A-4EA8-822F-390EEC11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5551-1D02-448B-AEC5-F5A5B777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A46A-ABE3-4976-9A36-4D9A22D0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4D6-9711-4419-8428-9CB77C3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B2D-6EFD-4A9D-BD00-499F3F1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9F36-36EC-49CD-8970-4541F7B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788-48FD-42C1-BCCA-C0AEB7C4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24A-AF3B-4B36-99EC-EDF2DCC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2F5-97EE-41A0-B185-EF48B5E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3B1-9687-4DD6-943B-00C5A14C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75FF-13AC-462F-B7FE-592B3E7F8C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SIX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28760" y="1467000"/>
            <a:ext cx="60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(feminine)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214280" y="21686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ν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θενε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χη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ορτ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στολη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υσι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857840" y="2324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me,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857840" y="295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ness,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857840" y="35719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ing (act and cont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857840" y="4181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sti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857840" y="47862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tter (correspond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857840" y="54100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fering, sacri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14280" y="1643040"/>
            <a:ext cx="407196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ωμη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αχαιρα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εφελη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ουσια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τομ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ρνει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857840" y="17985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857840" y="2432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857840" y="304632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857840" y="3656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ce,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857840" y="426096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rcum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857840" y="48848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xual immo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1428840" y="1214280"/>
            <a:ext cx="407196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οσευχη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μονη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υλη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ηρα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α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5072040" y="13701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072040" y="2003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072040" y="261792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e,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072040" y="322740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072040" y="38322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ntry(s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785880" y="4552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1457280" y="4991040"/>
            <a:ext cx="42861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ρεις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ρι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072040" y="515304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143000" y="1500120"/>
            <a:ext cx="44290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σσαρες (4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τεσσαρα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neuter nouns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ντε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ξ (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πτα (8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κτω (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ννεα (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214960" y="16714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214960" y="2909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14960" y="35244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214960" y="41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214960" y="4757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214960" y="5367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1214280" y="1143000"/>
            <a:ext cx="44294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εκα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ωδεκα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κατον (1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ιλια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ωτος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ευτερος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ριτος (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5286240" y="13431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286240" y="192888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286240" y="25430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hund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286240" y="31478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"/>
          <p:cNvSpPr/>
          <p:nvPr/>
        </p:nvSpPr>
        <p:spPr>
          <a:xfrm>
            <a:off x="5286240" y="3776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5286240" y="438624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5286240" y="5010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357120" y="5715000"/>
            <a:ext cx="807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Note: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υο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, learnt in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6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571680" y="157176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excla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214280" y="2357280"/>
            <a:ext cx="350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αι (4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571680" y="3214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wo common words whose stems are irregular in the Perfect A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1214280" y="4349880"/>
            <a:ext cx="650088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ωρακα -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ρα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ηκοα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ect Active of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κου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929120" y="236700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2:06:27Z</dcterms:created>
  <dc:creator>Sarah</dc:creator>
  <dc:description/>
  <dc:language>en-US</dc:language>
  <cp:lastModifiedBy>Sarah</cp:lastModifiedBy>
  <dcterms:modified xsi:type="dcterms:W3CDTF">2009-06-24T16:27:25Z</dcterms:modified>
  <cp:revision>21</cp:revision>
  <dc:subject/>
  <dc:title>Slide 1</dc:title>
</cp:coreProperties>
</file>