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83B-1E43-4B70-B5F9-12A98975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6F3-0501-46B0-B783-9110283F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391-0E35-4671-913C-2747DE47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264-CAAE-45DF-AE6F-42F8D0EB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183-D78A-49DC-BDEF-AACCF5C0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734-3BF4-49CE-9004-106A440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CCFA-4251-40B4-8E3A-2C96F19C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31E-833C-41C4-A165-C6898328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D905-C733-45E1-AE04-189674D4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BC5-6261-4573-8104-8DB8CE78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66C-91A4-4EF6-8AB0-EA72D380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694-52E6-4342-B346-3AA13094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CE63-689E-4E18-9588-99FF27DFDFB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68120" y="239760"/>
            <a:ext cx="8190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EVEN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214280" y="1428840"/>
            <a:ext cx="42148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 (1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ι (49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ἱνα (663)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πως (53)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ταν (123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αν (351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4857840" y="15858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al parti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57840" y="22287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57840" y="28242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57840" y="34383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order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57840" y="4057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57840" y="4667400"/>
            <a:ext cx="292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ternative f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857160" y="5429160"/>
            <a:ext cx="70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so can mean ‘if’ – see Chapter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71680" y="15001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o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571760" y="2168640"/>
            <a:ext cx="31431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ρος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εμ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κονο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χθρ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λιος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ἰν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000760" y="232884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000760" y="29527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000760" y="35863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000760" y="41860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000760" y="480060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000760" y="541008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571680" y="128592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thre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1571760" y="1954080"/>
            <a:ext cx="314316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ιρεω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ηγορε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λογ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5000760" y="211464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away,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5000760" y="27385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cc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5000760" y="337176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mise, conf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571680" y="4156200"/>
            <a:ext cx="60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t more feminin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1571760" y="4824360"/>
            <a:ext cx="3143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ενεα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λωσσα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5000760" y="498492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ily,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5000760" y="5608800"/>
            <a:ext cx="42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ngue,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928800" y="1208160"/>
            <a:ext cx="442908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φη (5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θηκη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κονια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αγγελια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θυμια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υρα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ουδαια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ρτυρια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4143240" y="13651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ing, scri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143240" y="199404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venant, last will and testa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4143240" y="26035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ce, min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143240" y="3222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143240" y="38322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4143240" y="44514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143240" y="508968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4143240" y="570384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stimony, wi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7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928800" y="123984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ργ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οφια (5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τηρια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μη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υλακη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ρεια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143240" y="141444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ger, wr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4143240" y="20239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143240" y="26431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l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4143240" y="325296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ce, value,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143240" y="3871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ch (guards), p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4143240" y="448164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500040" y="5181480"/>
            <a:ext cx="80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djective that often functions as a no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928800" y="5786280"/>
            <a:ext cx="292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τωχ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4143240" y="58104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5:57:11Z</dcterms:created>
  <dc:creator>Sarah</dc:creator>
  <dc:description/>
  <dc:language>en-US</dc:language>
  <cp:lastModifiedBy>Sarah</cp:lastModifiedBy>
  <dcterms:modified xsi:type="dcterms:W3CDTF">2009-06-24T16:30:20Z</dcterms:modified>
  <cp:revision>18</cp:revision>
  <dc:subject/>
  <dc:title>Slide 1</dc:title>
</cp:coreProperties>
</file>