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39BF-924C-4DA8-9CDA-366F67F97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426B-869E-464C-8530-E4DEF8E4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ED39-DC3A-4558-9901-7C562A196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71C6-9250-4EA3-88B2-BF74A2407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7B9A-E1C8-4AB8-AB13-437DFA18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613B-D0DC-47BD-8F72-C3CFBEA6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7E22-C8F2-4D27-883B-6E5DD462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7412-95E5-48B8-A389-36FC961C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1E20-3EA5-4194-9027-DACA95A9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9B21-EE60-44D7-BE98-3764FDD5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3E90-D0A0-4658-B2DD-F20C8F5B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6222-96F6-443F-B3D4-D041448F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1F1A-3711-4558-BBD6-CFD8FC9B8DE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68120" y="239760"/>
            <a:ext cx="8190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EIGH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8:Vocabulary 1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500040" y="128592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host of extra ad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214280" y="1857240"/>
            <a:ext cx="37148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ξιος (4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εξιος (5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υνατος (3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λευθερος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σχατος (5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ἱκανος (3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σχυρος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5072040" y="200988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5072040" y="263844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ght (han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5072040" y="325296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werful, capable, 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5072040" y="387180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5072040" y="448632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st, le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5072040" y="509580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5072040" y="573876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8:Vocabulary 2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1071720" y="1214280"/>
            <a:ext cx="371448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ευκος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λοιπος (5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εσος (5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νεος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ὀλιγος (4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λουσιος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νευματικος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ιλος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4929120" y="136692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te, b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929120" y="199548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929120" y="261000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d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4929120" y="322884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, yo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4929120" y="384336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, little (pl. fe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4929120" y="445284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4929120" y="509580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iri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4929120" y="575316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ved, friendly, fri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8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500040" y="128592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w more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857160" y="1712880"/>
            <a:ext cx="385776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αρτυς, μαρτυρος, ὁ (3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ισθος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ταυρος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5429160" y="1866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5429160" y="249552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y, w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5429160" y="31100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528480" y="3824280"/>
            <a:ext cx="27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more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857160" y="4324320"/>
            <a:ext cx="328608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ὐξανω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θαριζω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θιζω (4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1"/>
          <p:cNvSpPr/>
          <p:nvPr/>
        </p:nvSpPr>
        <p:spPr>
          <a:xfrm>
            <a:off x="5429160" y="448632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5429160" y="5095800"/>
            <a:ext cx="31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make/declare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3"/>
          <p:cNvSpPr/>
          <p:nvPr/>
        </p:nvSpPr>
        <p:spPr>
          <a:xfrm>
            <a:off x="5429160" y="5724360"/>
            <a:ext cx="31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ause to sit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8:Vocabulary 4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1143000" y="1278000"/>
            <a:ext cx="442908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υναμαι (21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θημαι (9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ειμαι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ἰδα (31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ρειμι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4857840" y="143496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an, I am 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4857840" y="206388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it (d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4857840" y="267336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ie, rec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4857840" y="328788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857840" y="390204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714240" y="4673520"/>
            <a:ext cx="55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 category of its ow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0"/>
          <p:cNvSpPr/>
          <p:nvPr/>
        </p:nvSpPr>
        <p:spPr>
          <a:xfrm>
            <a:off x="1143000" y="5421240"/>
            <a:ext cx="3571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ὡστε +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Infinitive (8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1"/>
          <p:cNvSpPr/>
          <p:nvPr/>
        </p:nvSpPr>
        <p:spPr>
          <a:xfrm>
            <a:off x="4857840" y="544500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the result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8:Vocabulary 5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500040" y="1428840"/>
            <a:ext cx="785808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number of words with an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α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fix to make them nega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1428840" y="2506680"/>
            <a:ext cx="350028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δικεω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δικια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θαρος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καθαρτος (3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πιστος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5072040" y="26575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o w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5072040" y="32958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ongd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5072040" y="38955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ean, p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5072040" y="451008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ure, un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5072040" y="51436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believing, faith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6:42:05Z</dcterms:created>
  <dc:creator>Sarah</dc:creator>
  <dc:description/>
  <dc:language>en-US</dc:language>
  <cp:lastModifiedBy>Sarah</cp:lastModifiedBy>
  <dcterms:modified xsi:type="dcterms:W3CDTF">2009-06-24T16:55:42Z</dcterms:modified>
  <cp:revision>15</cp:revision>
  <dc:subject/>
  <dc:title>Slide 1</dc:title>
</cp:coreProperties>
</file>