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3B95-DFCA-4949-A0A0-52443405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E0A-2127-40C2-A712-4DA4FD28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A9C-3BBE-4633-89DA-3B26A8E1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6AF-A431-4CFA-BF0C-8044689F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3FC-BA5B-440C-AB83-0DC1853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77AF-D836-4E1B-96D0-D9022709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26AC-7E0E-44FA-BE8C-D544045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7BB-6AD4-4989-846C-C85F44B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46B-ED7B-4E83-90FD-FF21DA3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775-AB3D-436E-A0EA-B1D6F573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EE1-67BE-4F10-985D-1289B0F8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8103-953F-4229-9927-D1C24316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3804-114F-41E8-B796-225D7BBA8B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NINE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446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0588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δωμι (4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διδωμι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ραδιδωμι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στημι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ιστημι (1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ιστημι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θημι (1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429160" y="205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429160" y="26290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ive awa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429160" y="3228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nd over, en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429160" y="38577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use to stand, st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429160" y="44816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ais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429160" y="5095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lace behi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429160" y="5715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214280" y="171468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θημι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φιημι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υνιημ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λλυμι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ικνυμ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μπλη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ημι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29160" y="16430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ut, place up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429160" y="2219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eave, forgive, dis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429160" y="2819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d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429160" y="34480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uin, destr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429160" y="407196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int out, show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429160" y="46864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429160" y="53053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71680" y="171468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14280" y="2428920"/>
            <a:ext cx="3429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καιο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ηροω (8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ελειο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νεροω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5429160" y="24224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justif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5429160" y="29988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lfil, fill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5429160" y="3598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ruc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429160" y="422748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compl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5429160" y="48513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veal, make know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571680" y="1143000"/>
            <a:ext cx="4357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-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ω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214280" y="1857240"/>
            <a:ext cx="34290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γαπαω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ενναω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ψαω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ρωταω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ερωταω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ζαω (1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ομαι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1851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ove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242712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ar (be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3027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irst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36561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428004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k (f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214960" y="489600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214960" y="551016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9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1214280" y="1511280"/>
            <a:ext cx="34290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οπι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ικα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ινα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ανα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ιμαω (2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τιμα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214960" y="15048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labou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5214960" y="208116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ver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214960" y="268128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5214960" y="330984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eive, lead as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5214960" y="393372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onour,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5214960" y="4551480"/>
            <a:ext cx="35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928800" y="5291280"/>
            <a:ext cx="742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plus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we learnt in Chapter 11 because it has th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δο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20:05:25Z</dcterms:created>
  <dc:creator>Sarah</dc:creator>
  <dc:description/>
  <dc:language>en-US</dc:language>
  <cp:lastModifiedBy>Sarah</cp:lastModifiedBy>
  <dcterms:modified xsi:type="dcterms:W3CDTF">2009-06-24T17:00:42Z</dcterms:modified>
  <cp:revision>27</cp:revision>
  <dc:subject/>
  <dc:title>Slide 1</dc:title>
</cp:coreProperties>
</file>