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574C-D307-46B3-97B2-D6E263ED6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1495-2827-451B-84D4-EB8128AE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87D3-7E99-4D89-81EE-9E4349270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1127-901A-4B02-B486-849CE24B5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7412-DE62-4B8E-B45D-B0871286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E6EC-4142-40ED-9D33-3F116569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2C55-B04F-46A5-8D1B-BFB05A23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EEA7-EF8F-40F5-97B7-ADD09795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8371-DC63-4B7E-BD3F-B7C119D4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FF8C-DCC3-4D74-BE44-87892511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A187-C11E-4323-896B-186ABE35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DE18-E88C-4EFD-AC08-82014D07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9B03-A77E-49FC-9516-0D3CEF8615A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254240" y="239760"/>
            <a:ext cx="6286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TW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:Vocabulary 1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142920" y="1251000"/>
            <a:ext cx="89298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he numbers in brackets after the Greek word are the number of times the word occurs in the New Testament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785960" y="2720880"/>
            <a:ext cx="400032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γω (6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κουω (4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Βαλλω (12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Βλεπω (13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ιδασκω (9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643280" y="287820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ead, b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4643280" y="34923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hear, lis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4643280" y="41068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h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657680" y="472140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ee, 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4657680" y="53211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4"/>
          <p:cNvSpPr/>
          <p:nvPr/>
        </p:nvSpPr>
        <p:spPr>
          <a:xfrm>
            <a:off x="785880" y="221292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ine verbs like </a:t>
            </a:r>
            <a:r>
              <a:rPr b="0" lang="el-GR" sz="2800" spc="-1" strike="noStrike">
                <a:solidFill>
                  <a:srgbClr val="000000"/>
                </a:solidFill>
                <a:latin typeface="Gentium"/>
              </a:rPr>
              <a:t>λυω</a:t>
            </a:r>
            <a:r>
              <a:rPr b="0" lang="en-GB" sz="2800" spc="-1" strike="noStrike">
                <a:solidFill>
                  <a:srgbClr val="000000"/>
                </a:solidFill>
                <a:latin typeface="Gentium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:Vocabulary 2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1785960" y="2000160"/>
            <a:ext cx="400032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χω (70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λαμβανω (25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λεγω (235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λυω (4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4643280" y="21574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have, 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4643280" y="277164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ake, rece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4643280" y="3386160"/>
            <a:ext cx="235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ay, speak, t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4657680" y="40006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un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:Vocabulary 3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1500120" y="2214720"/>
            <a:ext cx="428616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ζητεω (11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λεω (14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αλεω (29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ιεω (56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ηρεω (7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φιλεω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4643280" y="23716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4643280" y="298620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4643280" y="36003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peak, 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4657680" y="42148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o,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7"/>
          <p:cNvSpPr/>
          <p:nvPr/>
        </p:nvSpPr>
        <p:spPr>
          <a:xfrm>
            <a:off x="4657680" y="481500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k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785880" y="150012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six that are like </a:t>
            </a:r>
            <a:r>
              <a:rPr b="0" lang="el-GR" sz="2800" spc="-1" strike="noStrike">
                <a:solidFill>
                  <a:srgbClr val="000000"/>
                </a:solidFill>
                <a:latin typeface="Gentium"/>
              </a:rPr>
              <a:t>φιλεω</a:t>
            </a:r>
            <a:r>
              <a:rPr b="0" lang="en-GB" sz="2800" spc="-1" strike="noStrike">
                <a:solidFill>
                  <a:srgbClr val="000000"/>
                </a:solidFill>
                <a:latin typeface="Gentium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4657680" y="54435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ove, 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:Vocabulary 4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1785960" y="2000160"/>
            <a:ext cx="40003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γγελος (17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δελφος (3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ρτος (9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ουλος (1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εος (131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οσμος (18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υριος (71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4643280" y="215748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ssenger, ang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4643280" y="277164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4643280" y="33861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4657680" y="40006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4657680" y="460044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d,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785880" y="128592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urteen nouns declining like </a:t>
            </a:r>
            <a:r>
              <a:rPr b="0" lang="el-GR" sz="2800" spc="-1" strike="noStrike">
                <a:solidFill>
                  <a:srgbClr val="000000"/>
                </a:solidFill>
                <a:latin typeface="Gentium"/>
              </a:rPr>
              <a:t>λογος</a:t>
            </a:r>
            <a:r>
              <a:rPr b="0" lang="en-GB" sz="2800" spc="-1" strike="noStrike">
                <a:solidFill>
                  <a:srgbClr val="000000"/>
                </a:solidFill>
                <a:latin typeface="Gentium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4657680" y="52293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0"/>
          <p:cNvSpPr/>
          <p:nvPr/>
        </p:nvSpPr>
        <p:spPr>
          <a:xfrm>
            <a:off x="4643280" y="587232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rd, master, s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:Vocabulary 5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1785960" y="1571760"/>
            <a:ext cx="40003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λογος (33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νομος (19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ἰκος (11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ὐρανος (27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ὀχλος (17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υἱος (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377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Χριστος (71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4643280" y="17287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d,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4643280" y="234324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4643280" y="29574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usehold,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4657680" y="357192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4657680" y="417204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o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8"/>
          <p:cNvSpPr/>
          <p:nvPr/>
        </p:nvSpPr>
        <p:spPr>
          <a:xfrm>
            <a:off x="4657680" y="480060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9"/>
          <p:cNvSpPr/>
          <p:nvPr/>
        </p:nvSpPr>
        <p:spPr>
          <a:xfrm>
            <a:off x="4643280" y="544356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rist, Messi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1785960" y="1785960"/>
            <a:ext cx="40003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ὁ, ἡ, το (1986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4643280" y="194328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4643280" y="372744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being,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4643280" y="4356000"/>
            <a:ext cx="37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ople (as in ‘a people’ or ‘a nation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0"/>
          <p:cNvSpPr/>
          <p:nvPr/>
        </p:nvSpPr>
        <p:spPr>
          <a:xfrm>
            <a:off x="571680" y="128592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ost common word in Gre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1"/>
          <p:cNvSpPr/>
          <p:nvPr/>
        </p:nvSpPr>
        <p:spPr>
          <a:xfrm>
            <a:off x="614520" y="2585880"/>
            <a:ext cx="785808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s two more that decline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ογο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similar but distinct mean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2"/>
          <p:cNvSpPr/>
          <p:nvPr/>
        </p:nvSpPr>
        <p:spPr>
          <a:xfrm>
            <a:off x="1886040" y="3571920"/>
            <a:ext cx="278604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θρωπος (55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λαος (14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3"/>
          <p:cNvSpPr/>
          <p:nvPr/>
        </p:nvSpPr>
        <p:spPr>
          <a:xfrm>
            <a:off x="642960" y="5227560"/>
            <a:ext cx="83581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lural of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αο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ans people or nations; for ‘people’ meaning ‘a number of persons’ Greek would use the plural of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θρωπο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4:08Z</dcterms:created>
  <dc:creator>Sarah</dc:creator>
  <dc:description/>
  <dc:language>en-US</dc:language>
  <cp:lastModifiedBy>Sarah</cp:lastModifiedBy>
  <dcterms:modified xsi:type="dcterms:W3CDTF">2009-06-19T20:39:11Z</dcterms:modified>
  <cp:revision>15</cp:revision>
  <dc:subject/>
  <dc:title>Slide 1</dc:title>
</cp:coreProperties>
</file>