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51C-9186-49B7-81D4-201AC1D5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E526-3A4D-4026-BC97-5A9311C0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2E08-7D3E-444F-8AEA-FDFCA53B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66AF-EB85-439F-BAD5-38436B69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6EB-DF4D-4E0F-BD81-D79029CF0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E12-35A2-42F6-9943-64A79A16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7EA-D493-4A55-BF74-42A5B5CA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450-121B-452E-9A3C-35BE78B2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19C7-38A9-4074-8E9A-E8C53E1E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A87-9FC6-4695-926B-42645A1E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55C-7AF1-4554-B6B3-49D99D06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BB63-EA31-40D5-A24E-BE238299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A45C-0EFD-4F03-B3F4-8E23C362801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EN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214280" y="2700360"/>
            <a:ext cx="58579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ως (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αχιστος (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ὐ (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εισσων (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57120" y="171468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ortant adverbs, comparatives and superl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286240" y="2852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286240" y="3486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286240" y="41004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86240" y="4710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1214280" y="1857240"/>
            <a:ext cx="58579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λιστα (1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λλον (8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κρον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κρος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ειρων (1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286240" y="2009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of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5286240" y="2643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, r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5286240" y="3257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ittle, a shor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5286240" y="3867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5286240" y="45007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2700360"/>
            <a:ext cx="62863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ῳον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υσιαστηριον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μην, ποιμενος ὁ (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357120" y="171468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al few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5500800" y="28526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ing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500800" y="3486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5500800" y="4100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eph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000080" y="2662200"/>
            <a:ext cx="6286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εαομαι (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υχα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μνῃσκομαι (23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ιπτω (1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714240" y="1785960"/>
            <a:ext cx="75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715000" y="28144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, look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715000" y="34480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o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715000" y="406224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715000" y="46576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9T20:01:10Z</dcterms:created>
  <dc:creator>Sarah</dc:creator>
  <dc:description/>
  <dc:language>en-US</dc:language>
  <cp:lastModifiedBy>Sarah</cp:lastModifiedBy>
  <dcterms:modified xsi:type="dcterms:W3CDTF">2009-06-24T17:07:39Z</dcterms:modified>
  <cp:revision>6</cp:revision>
  <dc:subject/>
  <dc:title>Slide 1</dc:title>
</cp:coreProperties>
</file>