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66C-79C4-4D12-B1E8-F7495253E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DDD5-D03D-448C-8905-9EA21DD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AEE-371B-4DD6-84E8-CBA32ACD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8FF-08CA-45E4-83D7-7721350C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01A-F812-4977-9555-4D7EB23D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6C4E-9286-4657-AB25-E9A69A7F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BB4B-0571-446D-8B7C-865D00F9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142-ACFE-45B8-AC7B-AACCED2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97D-E66E-4DD7-983A-F2BF2736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191-5967-43FD-A7E3-23CD570D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232-63A0-4214-B012-1530428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02F6-1F17-4639-A6DF-9E15731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B94-6AF7-4E35-BDBE-84BEA331EA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RE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771560" y="20718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η (1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η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η (2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ωη (1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η (1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ψυχη (10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629240" y="2228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4629240" y="28432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629240" y="34574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43280" y="4071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th, soil,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0"/>
          <p:cNvSpPr/>
          <p:nvPr/>
        </p:nvSpPr>
        <p:spPr>
          <a:xfrm>
            <a:off x="4643280" y="4700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142920" y="11318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teen feminine nouns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η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η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643280" y="531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nd,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643280" y="59245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l, 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771560" y="1533600"/>
            <a:ext cx="40006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μαρτια (1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ια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κκλησια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ἡμερα (38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δια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ια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ικια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ρα (10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29240" y="169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29240" y="230508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ign, kingship,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29240" y="29192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mbly (later ‘church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3280" y="353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643280" y="41623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142920" y="11318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with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ing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μερα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4643280" y="53863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,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4643280" y="60246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r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1071720" y="16430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, with the mixed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1785960" y="2500200"/>
            <a:ext cx="30002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ξα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λασσα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4786200" y="26528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lendour, gl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786200" y="3286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, 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1771560" y="251784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ιβλιον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αιμονιον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 ἐργον (1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αγγελι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ερον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4629240" y="26748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ok, 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629240" y="328932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629240" y="390384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, d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4643280" y="451800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od news, gos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4643280" y="5146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142920" y="1616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 neuter noun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71560" y="21430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οι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ωπον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αββατον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ημειον (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κνον (9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29240" y="23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29240" y="2914560"/>
            <a:ext cx="35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29240" y="3529080"/>
            <a:ext cx="38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bb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43280" y="41432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gn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43280" y="4772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:Vocabulary 6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914400" y="1357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very important 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14680" y="1920960"/>
            <a:ext cx="3857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ὐτος αὐτη αὐτο (55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572080" y="1928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, she, it, th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928800" y="26431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1743120" y="322884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ησους (9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υλος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τρος (1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785960" y="5554800"/>
            <a:ext cx="3857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ευ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 (2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928800" y="521496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mor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5572080" y="3409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5600880" y="4029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5614920" y="4610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5643720" y="5715000"/>
            <a:ext cx="36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lieve (in), trust, have fait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7:51:14Z</dcterms:created>
  <dc:creator>Sarah</dc:creator>
  <dc:description/>
  <dc:language>en-US</dc:language>
  <cp:lastModifiedBy>Sarah</cp:lastModifiedBy>
  <dcterms:modified xsi:type="dcterms:W3CDTF">2009-06-19T20:46:25Z</dcterms:modified>
  <cp:revision>14</cp:revision>
  <dc:subject/>
  <dc:title>Slide 1</dc:title>
</cp:coreProperties>
</file>