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6743-1711-409B-AF64-7C218DD7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0DF-2AE0-41C4-A560-4E6854CC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2E7-CC2D-4418-8860-239BF2A20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E59-8B9F-42B0-A25B-28002593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624-3540-42C9-B389-D6FA1F02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131-A5FC-4E7A-A821-512D6D82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02F-C751-4DDC-9E8F-E6D136E9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D87-2EBE-4281-91C2-58333684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996-7941-437A-BF92-67ACB109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B06-A50F-48FA-AE96-F04ED983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2CF1-029B-4F64-878C-6324D292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7AA-8EA1-4C1E-A133-727E4CAB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A90C-F318-49D8-9B63-7A7120D49BA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2142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een common prepositions – remember they have different meanings with differe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857160" y="197496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 (64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α (667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ἰς (1767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 (91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ν (2752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ωπιον (9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357880" y="21146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way)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5357880" y="27576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5357880" y="3357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5357880" y="39862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5357880" y="4595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out of)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5357880" y="52149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5357880" y="5856120"/>
            <a:ext cx="371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front of, in the presenc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857160" y="1432080"/>
            <a:ext cx="42865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ξω (6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πι (89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ως (14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τα (47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357880" y="1571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357880" y="2214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357880" y="28144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, in the tim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357880" y="344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, in, on the basi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357880" y="4052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357880" y="46720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ording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357880" y="53132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857160" y="1432080"/>
            <a:ext cx="42865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τα (46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 (19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ρι (33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 (47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5357880" y="1571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357880" y="22147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357880" y="28144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ong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357880" y="34434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bes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5357880" y="4052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5357880" y="4672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ound, approxim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5357880" y="53132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rning,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5357880" y="59151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857160" y="1689120"/>
            <a:ext cx="42865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ς (70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 (128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ερ (15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 (22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ac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5357880" y="18288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, to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357880" y="24717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gether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5357880" y="30718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357880" y="37004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behalf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357880" y="43099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5357880" y="49291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y, at the hand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571680" y="125244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eleven compound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1857240"/>
            <a:ext cx="42861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βλεπω (25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λυω (6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βαλλω (81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καλεω (3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οικεω (44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καλεω (10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λαμβανω (4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3929040" y="19969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ok up, receive 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929040" y="2639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t free, divorce, dism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3929040" y="324000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rive out, cast out, throw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929040" y="38685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ll upon,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929040" y="447984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well, inhabit,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943440" y="5072040"/>
            <a:ext cx="54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exhort, request, comfort, en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3929040" y="5729400"/>
            <a:ext cx="54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,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:Vocabulary 6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1000080" y="1071720"/>
            <a:ext cx="42861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ριπατεω (95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κυνεω (60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 dat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υναγω (5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αγω (79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643280" y="121140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lk about,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643280" y="185436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643280" y="24541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ather, b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643280" y="308304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e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642960" y="378612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, two question words and the neg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1000080" y="4467240"/>
            <a:ext cx="42861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ως (10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υ (48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, οὐκ, οὐχ (1606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"/>
          <p:cNvSpPr/>
          <p:nvPr/>
        </p:nvSpPr>
        <p:spPr>
          <a:xfrm>
            <a:off x="4786200" y="4610160"/>
            <a:ext cx="37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4800600" y="52578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4"/>
          <p:cNvSpPr/>
          <p:nvPr/>
        </p:nvSpPr>
        <p:spPr>
          <a:xfrm>
            <a:off x="4843440" y="58863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20:28:29Z</dcterms:created>
  <dc:creator>Sarah</dc:creator>
  <dc:description/>
  <dc:language>en-US</dc:language>
  <cp:lastModifiedBy>Sarah</cp:lastModifiedBy>
  <dcterms:modified xsi:type="dcterms:W3CDTF">2009-06-19T20:54:16Z</dcterms:modified>
  <cp:revision>26</cp:revision>
  <dc:subject/>
  <dc:title>Slide 1</dc:title>
</cp:coreProperties>
</file>