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C44-C938-4A8B-AC4C-0384F2E9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04E-0823-495C-829E-14C11305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3B4-6DE4-4D32-83BC-7D54666E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D8C9-46B2-4D43-9DF1-B940A538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699-FD6F-49CB-B4D1-6BCECBB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EC5-D885-487B-B1F9-A309E4B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80CE-C78B-490C-9E01-4968ED3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62A2-C6E3-4EEA-9F89-0DB1AE6A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72B6-EF6F-4A2A-B602-1D311ECD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1479-2D19-4E1D-B490-E249501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9D6-F34F-4C85-9747-D38F4F4E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B41-D3FE-4395-A54E-C435225E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57D5-9B91-4BD2-850F-6CF8FE9C99E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892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standard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71760" y="211788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θος (1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απητος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ος (2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ς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στος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ερος (9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5214960" y="2260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214960" y="29034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5214960" y="3503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5214960" y="41324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right, j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214960" y="4741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14960" y="53611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,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571760" y="1785960"/>
            <a:ext cx="26431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ι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ουδαιος (19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κ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λος (1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ν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καρι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521496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’s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21496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wish, a J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5214960" y="3171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5214960" y="3800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utiful,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5214960" y="441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6"/>
          <p:cNvSpPr/>
          <p:nvPr/>
        </p:nvSpPr>
        <p:spPr>
          <a:xfrm>
            <a:off x="5214960" y="5029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essed, ha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1643040" y="1714680"/>
            <a:ext cx="2643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ονος (1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εκρος (1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σος (11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στος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νηρος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υφλος (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5286240" y="18572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, al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286240" y="25002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5286240" y="310032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grea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/how mu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5286240" y="4950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il, w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5286240" y="5592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5286240" y="4311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ful, beli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57120" y="12859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lightly irregular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5920" y="3328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important conj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71720" y="178596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γας, μεγαλη, μεγα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υς, πολλη, πολυ (4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143000" y="3828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λα (6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 (50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ἠ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ὡς (5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857920" y="1928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,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5857920" y="25718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ch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857920" y="40006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5857920" y="46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857920" y="5224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5857920" y="57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385920" y="128592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feminin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1143000" y="1785960"/>
            <a:ext cx="46432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αλιλαια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ρηνη (9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εφαλη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γη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857920" y="1957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ali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857920" y="2600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857920" y="31813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857920" y="3743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ag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428760" y="4429080"/>
            <a:ext cx="55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1143000" y="4929120"/>
            <a:ext cx="46432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ιρος (8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μι (24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5857920" y="5072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, 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857920" y="5715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428760" y="1428840"/>
            <a:ext cx="7929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special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re are two alternatives for ‘Jerusalem’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ther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εροσολυμα (77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euter plural wor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a rough breathing, 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ερουσαλημ (63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singular indeclinable word with a smoot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t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ιος (71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meaning ‘eternal’.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ἰωνιο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ver uses the feminine forms. It us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asculine endings when agreeing with 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minine noun, e.g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 αἰωνιος ζω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20:34:04Z</dcterms:created>
  <dc:creator>Sarah</dc:creator>
  <dc:description/>
  <dc:language>en-US</dc:language>
  <cp:lastModifiedBy>Sarah</cp:lastModifiedBy>
  <dcterms:modified xsi:type="dcterms:W3CDTF">2009-06-19T20:57:28Z</dcterms:modified>
  <cp:revision>45</cp:revision>
  <dc:subject/>
  <dc:title>Slide 1</dc:title>
</cp:coreProperties>
</file>