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A34-C430-4EBF-BF26-DB1C48BB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24F2-8C6A-4DF5-8079-85DABD4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E158-BB89-4789-8AF1-FFADD578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6E3-CDB0-4D21-8DAB-4024725F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356-F200-4CB3-8EDB-50C7B4EE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DBF4-9E40-4BF1-B1D1-1EF7F9AB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1B06-ECD1-4966-BD48-A1C47659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CD77-C47E-46EB-B657-DF8CB5A7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29E-B492-4B59-B661-FA5A4F11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330-DC70-4100-923A-C66AEDA4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2B1D-17FD-430F-8768-1C5E0304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90F-F206-4C69-BFAB-DEA946A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F56-A7B7-4D11-ABBD-9EE2A7F9375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1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/>
          <p:cNvSpPr/>
          <p:nvPr/>
        </p:nvSpPr>
        <p:spPr>
          <a:xfrm>
            <a:off x="285840" y="1252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more important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4"/>
          <p:cNvSpPr/>
          <p:nvPr/>
        </p:nvSpPr>
        <p:spPr>
          <a:xfrm>
            <a:off x="285840" y="18288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femin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5"/>
          <p:cNvSpPr/>
          <p:nvPr/>
        </p:nvSpPr>
        <p:spPr>
          <a:xfrm>
            <a:off x="1500120" y="23572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καιοσυ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τολη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ξουσια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βολ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ρησια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α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6"/>
          <p:cNvSpPr/>
          <p:nvPr/>
        </p:nvSpPr>
        <p:spPr>
          <a:xfrm>
            <a:off x="5143680" y="2500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e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7"/>
          <p:cNvSpPr/>
          <p:nvPr/>
        </p:nvSpPr>
        <p:spPr>
          <a:xfrm>
            <a:off x="5143680" y="3138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a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8"/>
          <p:cNvSpPr/>
          <p:nvPr/>
        </p:nvSpPr>
        <p:spPr>
          <a:xfrm>
            <a:off x="5143680" y="37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5143680" y="4371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0"/>
          <p:cNvSpPr/>
          <p:nvPr/>
        </p:nvSpPr>
        <p:spPr>
          <a:xfrm>
            <a:off x="5143680" y="49816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pokenness, b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5143680" y="5586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2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ascu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ολο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νατος (12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φθαλμος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ρισαιος (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o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6399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ri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3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85840" y="171144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neu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ηριον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ματιον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νημειον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βατον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imal, b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mb, mon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85840" y="17114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negatives, used in the ‘other moods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1500120" y="2239920"/>
            <a:ext cx="38577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 (10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δε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κετ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τε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143680" y="2382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143680" y="3021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but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5143680" y="363996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143680" y="425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,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5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285840" y="138600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ven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1500120" y="1914480"/>
            <a:ext cx="38577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λουθεω (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κεω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ε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ω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5143680" y="20858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143680" y="26971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 up, re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5143680" y="33148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ind, ti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5143680" y="39290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ink, se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5143680" y="4538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mercy on, p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5143680" y="51577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,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6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500120" y="1954080"/>
            <a:ext cx="38577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ωρεω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ργ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ρτυρεω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λλω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νο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143680" y="20970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143680" y="2736720"/>
            <a:ext cx="40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ineffective, abo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143680" y="33544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 witness, tes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3968640"/>
            <a:ext cx="35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intend, am about (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143680" y="45925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ent, change my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7:Vocabulary 7/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14240" y="157176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verbs which only occur in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ingular (called ‘impersonal verb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500120" y="25718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εστι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5072040" y="2714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072040" y="33526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3040" y="4183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pre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1486080" y="4768920"/>
            <a:ext cx="2714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πισω (35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5086440" y="49212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h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1:47:05Z</dcterms:created>
  <dc:creator>Sarah</dc:creator>
  <dc:description/>
  <dc:language>en-US</dc:language>
  <cp:lastModifiedBy>Sarah</cp:lastModifiedBy>
  <dcterms:modified xsi:type="dcterms:W3CDTF">2009-06-23T10:22:18Z</dcterms:modified>
  <cp:revision>14</cp:revision>
  <dc:subject/>
  <dc:title>Slide 1</dc:title>
</cp:coreProperties>
</file>