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E65-00E4-4FA7-B7C7-3F5F7870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D40-33E7-4C03-8E55-6AFA1EE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243-5193-40BA-B5A7-7D3DF983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4B7-7BB4-41C5-A2A7-67643B7B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2D37-DD28-4F83-BE3A-DB86EFB5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16F-40C4-42ED-851B-A3B5EE39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F584-BB86-430D-9A46-6AAB2816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B49-8E46-45DC-B0D3-CEBF795C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6F6-8798-4B95-A414-5415C07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9F14-D1B0-43AC-A224-429388A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E60-FDAA-4308-AA4C-F1F1936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8C4-EA9F-49D4-A535-34855EDA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66D0-717C-40CB-8364-4C016C0520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571680" y="135720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teen deponent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1357200" y="191448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χομαι (6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ερχομαι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ερχομαι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σερχομαι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ερχομαι (2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ρχ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507204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072040" y="2695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072040" y="33098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oss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072040" y="3929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into,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072040" y="4538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,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072040" y="5143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by, pas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072040" y="57862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, go to,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620720"/>
            <a:ext cx="414360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ρχομαι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τομαι (3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νε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ομαι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παζομαι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χομαι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γαζομα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072040" y="1778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072040" y="24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o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072040" y="3016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fuse, d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072040" y="549288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1357200" y="1620720"/>
            <a:ext cx="41436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ζομα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ιζομαι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ομαι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καλεομαι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ῥυομαι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072040" y="1778040"/>
            <a:ext cx="40719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claim good news (a compoun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-ἀγγελιζομα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72040" y="3016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culate,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72040" y="36352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072040" y="42451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072040" y="4849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sc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asculine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η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143000" y="2065320"/>
            <a:ext cx="47149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ρῳδης, ὁ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ωαννης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or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Ἰωανης, ὁ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θητης, ὁ (2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φητης, ὁ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ρατιωτης, ὁ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ηρετης, ὁ (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715000" y="2222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715000" y="2846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h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15000" y="34606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715000" y="4079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p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715000" y="46893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ld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715000" y="52941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571680" y="135720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143000" y="1906560"/>
            <a:ext cx="4714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ρναβας, ὁ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ς, ὁ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τανας, 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715000" y="20638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na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15000" y="26877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ah, Ju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715000" y="330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14240" y="4125960"/>
            <a:ext cx="7000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o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ς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 with a genitive in 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942840" y="4697280"/>
            <a:ext cx="47149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λια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5715000" y="48546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ij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8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571680" y="1785960"/>
            <a:ext cx="700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feminine words 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43000" y="2514600"/>
            <a:ext cx="471492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γυπτος, ἡ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ημος, ἡ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δος, ἡ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5715000" y="26719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>
            <a:off x="5715000" y="3295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derness, desolat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5715000" y="45324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y,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20:43:37Z</dcterms:created>
  <dc:creator>Sarah</dc:creator>
  <dc:description/>
  <dc:language>en-US</dc:language>
  <cp:lastModifiedBy>Sarah</cp:lastModifiedBy>
  <dcterms:modified xsi:type="dcterms:W3CDTF">2009-06-23T10:29:11Z</dcterms:modified>
  <cp:revision>24</cp:revision>
  <dc:subject/>
  <dc:title>Slide 1</dc:title>
</cp:coreProperties>
</file>