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3FA5-7554-413D-93B0-ECDFC9A9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5DB1-3BC8-4CD8-BD53-30E50504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7DA5-4612-4DDF-9466-A12F8247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201-BF88-4F78-9726-9BB39CC3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756-B907-4492-8CCF-CCD49F25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548-F722-40F4-9212-A85512A8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4C6-7C64-48D4-89FF-64549D2A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009-6582-4BF4-90EF-C0C8494E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58A-68AD-44F2-8745-9BBCCA27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774-7601-4A16-9D3E-BEEF9E0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C4D-9FDF-4125-AD72-4EC54776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4034-2AA1-4588-ABB6-02F85DE1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FB76-BE67-4FDB-8DFA-9701BC2189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teen pronouns or personal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43000" y="190332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ηλ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αυτος (3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ω, ἡμεις (26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νος (2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αυτ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0527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other,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2700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30048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mself, herself, itself (reflex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29040" y="4529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, 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29040" y="5143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 (pl. tho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29040" y="5767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143000" y="12794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μος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ἀγω (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λος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ος αὑτη τουτο (138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ος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εαυτ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, 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4786200" y="207648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I (=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 + ἐγ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4786200" y="26766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le, ent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4829040" y="3905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what ki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829040" y="4519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great,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829040" y="51451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4829040" y="5769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, yours (sin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4786200" y="3308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(pl. the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143000" y="1279440"/>
            <a:ext cx="37861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, ὑμεις (290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οιουτος (5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4302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(sing.), you (p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86200" y="20764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such a kind, s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57280" y="28004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neuter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1143000" y="3300480"/>
            <a:ext cx="37861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νιον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νδρον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υστηριον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ηριο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4786200" y="34513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mb, shee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4"/>
          <p:cNvSpPr/>
          <p:nvPr/>
        </p:nvSpPr>
        <p:spPr>
          <a:xfrm>
            <a:off x="4786200" y="40971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4786200" y="46958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stery, sec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6"/>
          <p:cNvSpPr/>
          <p:nvPr/>
        </p:nvSpPr>
        <p:spPr>
          <a:xfrm>
            <a:off x="4800600" y="52959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828720" y="161784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1414440" y="2117880"/>
            <a:ext cx="3786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ρ (10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 (27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ο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οτ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057640" y="2268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057640" y="29145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,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057640" y="351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072040" y="41133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5072040" y="47386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5072040" y="53388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428840" y="154296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τε (6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 (1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ποτε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ν (4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629240" y="1722600"/>
            <a:ext cx="385740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τε ... εἰ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... if, whether ... or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629240" y="29829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629240" y="358128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ne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643280" y="41814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643280" y="48070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fore, con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643280" y="5407200"/>
            <a:ext cx="385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...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1:36:01Z</dcterms:created>
  <dc:creator>Sarah</dc:creator>
  <dc:description/>
  <dc:language>en-US</dc:language>
  <cp:lastModifiedBy>Sarah</cp:lastModifiedBy>
  <dcterms:modified xsi:type="dcterms:W3CDTF">2009-06-24T15:32:22Z</dcterms:modified>
  <cp:revision>15</cp:revision>
  <dc:subject/>
  <dc:title>Slide 1</dc:title>
</cp:coreProperties>
</file>